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134-C7C5-421E-9692-16BABFF1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15F-932A-4D7C-8DD3-F556C733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174-B43E-4E5B-A95A-076AD942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A16-64F1-4CCD-98EC-4CCD928F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EEC-DEAE-4C3D-804A-FA8BEBC0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A50-51EE-410C-A6C0-A9F93ABD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36D-7878-4DEC-8309-37DC697F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485-FA52-4243-B88F-E48238B7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5C7-9E27-46AE-BAD9-DD16E8B6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551-9AC7-4234-BDD8-3C90A472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76A-85F1-4E7F-BA79-C51A7143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339-BE4F-4E68-AE1E-09A74347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2684-D9D1-4961-8C36-584CBDCA4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а новорођенч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е ОС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12600" y="685800"/>
            <a:ext cx="35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ЕДИЦИНСКИХ НАУ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5527800" y="679320"/>
            <a:ext cx="290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 OF MED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Subtitle 2"/>
          <p:cNvSpPr/>
          <p:nvPr/>
        </p:nvSpPr>
        <p:spPr>
          <a:xfrm>
            <a:off x="2987640" y="5013360"/>
            <a:ext cx="571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ана Са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НН у ОИ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ра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а (неинфективна) НН морају бити одвојена од болесних- кадровски и просто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рођена ван болнице хоспитализују се минимум 7 дана у изолациј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а инфекцијом (сумња/потврђена) мора се изолов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НН у ОИ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е у купа под млазом воде, не у кад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риласка сваком новорођенчету, лекар и сестра стављају маске и перу ру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не се отварају лак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препорук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едној соби највише 12 Н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сестра максимално може неговати 12 Н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Y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женско новорођен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.yy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.године у 02:35 ч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ље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.yy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.године у 07:55 ч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аруквице: 7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ћено из регионалног породилишта у пратњи педијатра и мед.сес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 хоспитализације: респираторно погорш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 дете из неконтролисане трудноћ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=12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TD=41cm, POG=27c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гар скор 4/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 39 недељ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 завршен природним пу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а вода зел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и овојци прокинути непосредно пред порођа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д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неконтролисана трудноћ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трудноће мајка је била здрава. Прва трудноћа завршена пре 11 месец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 мајке ``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D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позитивн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података везаних за наслеђ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ашња болес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рофично, слабије плаче, глава издужена, намрштен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мрко- ружичаста, смежурана, акре ливид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 снижен, рефлекси се не изазивају, потом назна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ције напорније, са нискотонским визинг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 над срцем уре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еглед- у бо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о у изоле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ор за кисеоник са 3, а затим и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/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 сатурације кисеоником и срчане рад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: указују на ацидо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ипокликемиј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олети ружичасто, присутне спонтане моторике, развија тахипнеу, Р=80/м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и.в.рехидрација, иницијална А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mecil, Amicacin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тамин К. Вакцине није прими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јему у ОИ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олошки обрађ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олети, са додатним О2- шат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АБ (исти), а од 2-ог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onem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бог 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 при пријему: ацидо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гликемиј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mmol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ЦНСа- Изражене хиперехогености. Коморе у физиолошким границ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срц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 u fossi oval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 плућа: Указује на пнеумонију при пријему ...Контролни налаз уред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 од узраста НН, нега се спроводи на више н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посрено збрињавање- нега у породилиш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га на одељењу ОИ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га здравог НН у кућним ус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аљем току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: у границама рефернтних вр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сана гликемија 5,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е вредности билирубина –Фото терапија 4 с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=109g/l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С депл.Е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УЗР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 за 39Г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ско НН предвиђају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 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5: 2800g, p50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95: 3947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Д 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5: 48cm, p50:50cm, p95: 53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=12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TD=41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рођено у термину са ИУЗ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у породилишту- основном збрињавањ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ање 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ецање пупча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: 5- 10 минута од рође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но: кад престану пупчане пулз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штипаљком,стерилном трачицом,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у строго асептичним услови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 патрљак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уши се за 3- 4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 за 1 недељу и оставља ра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сте за 2 неде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 друго: крварење, влажење, ...- захтева лечењ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другог прегледа до отпуста из породилишта (2-3 дана)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дневна обрада пупка антисепти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ње и нега кож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 тестови: Гатријев тест, УЗ ЦНСа, скрининг слуха, скрининг на РО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у очи- превенција гонороичне инфе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тпусту НН...лекар израђује отпусну листу која садрж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 и презиме мајке НН и по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арукв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ум и тачно време рођења (значајно..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/ОГ/ОГ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трудноће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мај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трудноће (порођаја) по ре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а 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везани за наслеђ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исани резултати скрининг тесто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и остали физикални прегле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8:58:42Z</dcterms:created>
  <dc:creator>Miki</dc:creator>
  <dc:description/>
  <dc:language>en-US</dc:language>
  <cp:lastModifiedBy>Miki</cp:lastModifiedBy>
  <dcterms:modified xsi:type="dcterms:W3CDTF">2020-09-29T15:18:24Z</dcterms:modified>
  <cp:revision>50</cp:revision>
  <dc:subject/>
  <dc:title>PowerPoint Presentation</dc:title>
</cp:coreProperties>
</file>